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A13F-CB7D-4F63-93A4-8DB6A2DD1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AC3C-FF20-4AF4-9470-CE3DE24AC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56BE-8FE2-4253-941C-270D716E2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ECDE-23B0-46BB-AEDA-579773695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6FC4-0F53-4AC5-8D9B-85B880CD5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F2A5-AAD1-40B9-8CF4-9490EF031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03B5-173E-4965-9896-E90208749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CAE8-9A92-4D6D-A556-1BF5E2F50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A63F-6452-455B-926A-308DA0C98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9895-4ACE-4B16-8141-8FBEBB2A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1F85-CC4E-4AFA-A4D2-C673B505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EBFA-7299-4DEF-B6E3-7A86F21E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79BD7-39A6-46D4-B15C-F3D6DF205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ional 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 1: Three Bran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 2: Checks and Bal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 3: Bill to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. Judicial Bra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THEY INTERPRET THE LAWS (Article I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Equal Jus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ettle civil disp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Decide innocence or gui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Adversarial in 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Federal Courts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U.S. Supreme Cou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Court of appe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District Cou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State Court System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upreme Cou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Court of appe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Superior Cou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District Cou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Federal Court Jurisd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Auth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onstit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Federal l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Disputes b/w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itizens of different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Federal Gov’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Foreign Gov’t and trea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dmiralty and Maritime L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U.S. Diploma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Exclusive Jurisd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oncurrent Jurisdi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riminal, Civil, Administrative, Statu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U.S. Supreme Court has BOTH (Constitution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Original Jurisd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ppellate Jurisd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ederal Court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reme Courts=Appellate Jurisd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rts of Appeals=Appellate Jurisd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ct Courts=Original Jurisd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Magist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pinions &amp; Prece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Federal Judges=Appoi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Adversarial in 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lea Barg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District Courts hold all types of trials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 Supreme Cou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9 Members (8 +1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Appointed &amp; approv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hooses what cases they h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Top decision-ma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P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Judicial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Marbury v. Mad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ERVE FOR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im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an only hear cases sent to 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Court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Oct-June/Ju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Doc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Brief, Arguments, Con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1522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Opin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j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ur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sen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s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Social Conditions *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Importan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Marbury v. Mad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Roe v. W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Plessy v. Fergu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Brown v. Board of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inker v. Des Mo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Miranda v. Ariz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Gideon v. Wainw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Swann v. Charlotte-Mecklenbe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State v. Man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Korematsu v. United St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Dred Scott v. Sandf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exas v. John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Hazelwood School District v. Kuhlme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McCulloch v. Mary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Gibbons v. Og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N.J. v. T.L.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Mapp v. Oh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ic 2: Checks and Bal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/3rd over-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oral Colle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dicial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deral Bureauc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I. War Powers Act of 197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Can’t bypass the Con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fig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ic 3: Bill to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($ in House!!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t Re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vil, Criminal, Administrative, Statu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: EPA reg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Bill-L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itizens, Interest Groups, White Ho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Given a Title &amp; Number (S.1, H.R.10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Committee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Standing Committee (exper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Pass, Change, Replace, Ignore, K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Deb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rgue over good/bad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House; Priority, Senate;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Fillibuster, Clo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V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Voice, Standing, Roll-Call, Electron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dentical versions must be pas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f either house rejects, bill 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Conference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ettle 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Presidential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Veto (2/3 Majority to overr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ocket V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ig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0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1: Three Branches of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4600" indent="-804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islative Branch (THEY MAKE THE LAW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Bicam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House of Represent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Based on Population; Cen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435 Memb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Gerryman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an Impeach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e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Based on Equ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00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Two year peri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Majority v. Minority Pa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arty W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788240" y="3457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09480" y="1519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Congressional Leader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House of Represent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Speaker of the House (Maj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hooses what to talk ab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Sen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President Pro Temp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Vice President’s R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Must take bills in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Congressional Committ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Standing Committ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Select/Jo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Seniority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Conference Committe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owers of Con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Expressed Pow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Implied Pow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Impe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Block Appoin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Propose Amend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0948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 Limits on Congressional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Writ of Habeas Corp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Bills of Attai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Ex Post Facto Law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. Qualifications for HoR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25 yrs 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7 yr U.S. Citiz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Live in state to re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Qualifications for Sen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30 yrs 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9 yr U.S. Citiz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Live in state to re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$165,200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Franking Privile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05760" y="5284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. Executive Branch (THEY ENFORCE THE LAW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 D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7956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at least 35 years 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7956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Native-born American Citi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7956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Resident of the U.S. for at least 14 y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7956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More experience is necessary, 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In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First President of the U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First Catho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First African American Candi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First woman candidate for V.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First Jewish candidate for V.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Elect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Every 4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Electoral Colleg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Not Popular V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Electoral votes (#House +#Sen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Population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270/5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No majority goes to 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22nd Amend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EC Movie Cl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Salary &amp;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$400,000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$ for expe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White House, 80 Serv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amp David, Air Force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Vice Pres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Elect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WITH the Pres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ame qual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Major P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resides over Se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Votes in case of tie (ARTICLE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Presidential Succ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25th Amend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Vice Pres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peaker of the 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resident Pro Temp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ecretary of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ecretary of Def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Attorney 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ecretary of the Interior.. Page 2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5228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residential Pow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Veto Legislation (BIL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Call Congressional Special S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Commander in Chie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Foreign Re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Make Trea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Appoint Judges, Ambassadors (senate approv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 Pardon or Reprie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War Powers Act of 19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 Presidential R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Chief Execu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Executiv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ppoin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Chief Diplo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Foreign Re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Commander in Chie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In charge of the mili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Declare war with Congressional appro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Head of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. Presidential Cabi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ecretary of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ecretary of Def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Secretary of Treas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Attorney 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Page 2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. Executive Office of the Pres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500 people 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10-12 personal advi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Chief of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. Ag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FDA, CDC, E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7T18:12:21Z</dcterms:created>
  <dc:creator>Chatham County</dc:creator>
  <dc:description/>
  <dc:language>en-US</dc:language>
  <cp:lastModifiedBy>Chatham County</cp:lastModifiedBy>
  <dcterms:modified xsi:type="dcterms:W3CDTF">2010-09-29T12:54:50Z</dcterms:modified>
  <cp:revision>3</cp:revision>
  <dc:subject/>
  <dc:title>Unit 2  National Government</dc:title>
</cp:coreProperties>
</file>